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5D8B-CC16-46FA-AB1A-E5C556142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9380-B380-4B4F-AE2F-4E942E0BE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1DAC-A23C-4DF2-8BEF-F87B1B71A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64DA-89B1-40C4-B60D-EAFF2E95E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7002-CB30-4650-A253-28982C3C5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CE2B-0CD0-4418-8696-415C026B0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51AE-9BAB-4A73-9E3E-0290F7C84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1791-66FF-4DC1-A574-7F15AF924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13C3-F682-41FF-BF2F-08F505CE3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6A12-B959-4770-B9C8-0FD5503F1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303F-F895-486D-8F11-977F942CF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A422-5D63-4340-894B-DC3A4C08D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42B-805B-47BC-905C-36904EC748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2xby3%20v4.gsp" TargetMode="External"/><Relationship Id="rId2" Type="http://schemas.openxmlformats.org/officeDocument/2006/relationships/hyperlink" Target="file:///NumberLineFunctions%20V4.gs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BA59-5A56-46CD-B7B0-F1F38005D2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   x,    2x,      ,    x+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107-FF50-4BB5-B065-867CB78F35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3657600" y="4114800"/>
                <a:ext cx="266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5562720" y="4114800"/>
                <a:ext cx="761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209680" y="5257800"/>
            <a:ext cx="6186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211A-42AE-4B6B-8D37-6CCF52A234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BF63-ACB2-4A26-85C5-097B9AFFA3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92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Callout 24"/>
          <p:cNvSpPr/>
          <p:nvPr/>
        </p:nvSpPr>
        <p:spPr>
          <a:xfrm>
            <a:off x="5791320" y="228600"/>
            <a:ext cx="3352680" cy="14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Unit Ra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6E87-CE26-45D6-8205-C11A3FD04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685800" y="2057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Straight Connector 7"/>
          <p:cNvSpPr/>
          <p:nvPr/>
        </p:nvSpPr>
        <p:spPr>
          <a:xfrm>
            <a:off x="12193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060560" y="2219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3746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438280" y="191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9"/>
          <p:cNvSpPr/>
          <p:nvPr/>
        </p:nvSpPr>
        <p:spPr>
          <a:xfrm>
            <a:off x="49910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94360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723960" y="3200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7"/>
          <p:cNvSpPr/>
          <p:nvPr/>
        </p:nvSpPr>
        <p:spPr>
          <a:xfrm>
            <a:off x="1257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62103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098720" y="33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3784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247644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9"/>
          <p:cNvSpPr/>
          <p:nvPr/>
        </p:nvSpPr>
        <p:spPr>
          <a:xfrm>
            <a:off x="746748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981760" y="3362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50547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7289640" y="336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553080" y="60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 : 4/5 = ?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7442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725184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3467-3697-4376-9E80-0604472CEA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picks a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lue f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1/2,  1,  2,  3,  4,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valua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following expressions for YOUR value of x, and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lo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ach on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933-504A-4AFE-814A-E24BDD98EF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911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76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5CF-9899-4A08-9740-BCE8CF66D2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6324480" y="609480"/>
                <a:ext cx="2362320" cy="480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m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3B7-1F42-4DF6-88BD-0D5230B608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structions for Breakout 7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umber off (1-2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rt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-8 : Classroom 4 (down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9-15: Classroom 2 (up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6-22 HER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3-29:  Classroom A/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rive at 2:45 and Find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irculate through rooms, taking turns as the tour guid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7D6D-6312-43A6-81D7-1DA0AF83FA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D894-9877-41B2-A6F3-04D489140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FFF-2F73-4E1A-B713-06CB2B2BC2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DDDE-55EF-4D1D-BABA-C678EF5DDA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8BD-DE8E-42A2-A909-AC21B087AD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lit your tables into groups or 2 or 3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E64-1BCD-4231-975E-4A522E4E74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4479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for curriculum connections to fraction mean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  with colour coded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DE7F-0F27-44FA-8696-980AD40900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943600" y="1447920"/>
            <a:ext cx="28954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8305920" y="2144880"/>
            <a:ext cx="304560" cy="228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8305920" y="25146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8305920" y="3400560"/>
            <a:ext cx="304560" cy="2286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8305920" y="4495680"/>
            <a:ext cx="304560" cy="2286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8305920" y="483876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, and listen for math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 of listening is going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ir major miscon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D39-2F35-468D-9DE0-C1B2F66F0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6B9-C748-43E9-AE46-E38A127DD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 “number line” out of cubalinks.  Use colour to represent YOUR fraction (from the start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AAA9-D909-4849-85B1-7FCA87D580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cp:lastPrinted>2012-08-23T16:27:54Z</cp:lastPrinted>
  <dcterms:modified xsi:type="dcterms:W3CDTF">2012-08-23T17:14:33Z</dcterms:modified>
  <cp:revision>68</cp:revision>
  <dc:subject/>
  <dc:title>&lt;Title&gt;</dc:title>
</cp:coreProperties>
</file>